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74EC-1628-4BD5-A82F-E34BE1D3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96C8-DF1D-4B87-BAFA-D4E27B13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5F9-D102-4791-B815-E3585F32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44C6-C948-4B7D-B4A5-9AB7D895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8D4-54C2-4D70-8E16-947AF5EE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DD1-1653-4DF8-8DED-F7CF3F65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327-3EF0-4D47-BF49-B5A2AC6F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F5BD-EEFB-4400-AD9B-C7DCCAA2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B4F-9BAE-45B1-AA98-33E48C87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556-31E5-47AF-9785-448B0DC8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33EE-1B1B-4BC9-9A53-4F82A235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C72-C7F2-44DE-A96A-97037F08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660B-52B6-40C9-BB87-F4AACA4CF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01.jp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4"/>
          <p:cNvSpPr/>
          <p:nvPr/>
        </p:nvSpPr>
        <p:spPr>
          <a:xfrm>
            <a:off x="0" y="40892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2f2f2"/>
                </a:solidFill>
                <a:latin typeface="黑体"/>
                <a:ea typeface="黑体"/>
              </a:rPr>
              <a:t>单元十  医院感染管理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4"/>
          <p:cNvSpPr/>
          <p:nvPr/>
        </p:nvSpPr>
        <p:spPr>
          <a:xfrm>
            <a:off x="5135400" y="133020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幼圆"/>
                <a:ea typeface="幼圆"/>
              </a:rPr>
              <a:t>护理管理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四   医院感染持续改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1905120" y="2666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管理职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管理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C:\Users\二胖\Desktop\护理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图示 18" descr=""/>
          <p:cNvPicPr/>
          <p:nvPr/>
        </p:nvPicPr>
        <p:blipFill>
          <a:blip r:embed="rId2"/>
          <a:stretch/>
        </p:blipFill>
        <p:spPr>
          <a:xfrm>
            <a:off x="1463760" y="2438280"/>
            <a:ext cx="6095880" cy="2292480"/>
          </a:xfrm>
          <a:prstGeom prst="rect">
            <a:avLst/>
          </a:prstGeom>
          <a:ln w="0">
            <a:noFill/>
          </a:ln>
        </p:spPr>
      </p:pic>
      <p:sp>
        <p:nvSpPr>
          <p:cNvPr id="51" name="矩形 16"/>
          <p:cNvSpPr/>
          <p:nvPr/>
        </p:nvSpPr>
        <p:spPr>
          <a:xfrm>
            <a:off x="228600" y="8380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图示 8" descr=""/>
          <p:cNvPicPr/>
          <p:nvPr/>
        </p:nvPicPr>
        <p:blipFill>
          <a:blip r:embed="rId2"/>
          <a:stretch/>
        </p:blipFill>
        <p:spPr>
          <a:xfrm>
            <a:off x="536400" y="1262160"/>
            <a:ext cx="8326440" cy="3998880"/>
          </a:xfrm>
          <a:prstGeom prst="rect">
            <a:avLst/>
          </a:prstGeom>
          <a:ln w="0">
            <a:noFill/>
          </a:ln>
        </p:spPr>
      </p:pic>
      <p:sp>
        <p:nvSpPr>
          <p:cNvPr id="56" name="矩形 9"/>
          <p:cNvSpPr/>
          <p:nvPr/>
        </p:nvSpPr>
        <p:spPr>
          <a:xfrm>
            <a:off x="1101960" y="609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一  医院感染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380880" y="139716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医院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概念：医院感染又称医院获得性感染。是指任何人在医院受到病原体侵袭获得的感染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医院感染按病原体的来源分为外源性感染和内源性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380880" y="3527280"/>
            <a:ext cx="73915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医院感染发生的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医院感染的发生必须具备三个形成条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感染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传播途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人群易感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一  医院感染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914400" y="16351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医院感染的影响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主观因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客观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914400" y="37638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、医院感染监测及控制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监测项目及时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监测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二  预防与隔离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914400" y="163512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标准预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标准预防定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基本要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防护措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914400" y="3763800"/>
            <a:ext cx="739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隔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标准性隔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传染性隔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保护性隔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二  预防与隔离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914400" y="1220760"/>
            <a:ext cx="815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常见传染病的主要特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细菌性痢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伤寒、副伤寒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麻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流行性乙型脑炎 传染性肝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二  预防与隔离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914400" y="1220760"/>
            <a:ext cx="81532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、手卫生管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概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医务人员洗手指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医务人员洗手的方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医务人员手消毒指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医务人员手消毒的方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职业暴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914400" y="122076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职业暴露概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职业暴露的防护措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生职业暴露后的处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职业暴露处理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UP</dc:creator>
  <dc:description/>
  <dc:language>en-US</dc:language>
  <cp:lastModifiedBy>acer</cp:lastModifiedBy>
  <dcterms:modified xsi:type="dcterms:W3CDTF">2021-07-15T06:05:34Z</dcterms:modified>
  <cp:revision>1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